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334-028B-45E8-B28A-B351AFA3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F18-1786-497E-8F96-6C8847CE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A0D-945C-41FE-8FCE-1382E622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458-B1AF-44B6-A0D0-A02D6F3E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884-BCA9-4C20-86C2-31C60481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CA0-48D0-4637-88B8-ED8FB454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658-BD28-4DA1-A116-B0A9464D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38F-53F7-420F-997C-E42D2825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E20C-5217-46F5-B6EB-6BFBC3FA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C5A-8400-42DD-9CB2-BDB53234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1F5-FF9D-4E01-85F2-8ACA5CF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855-CA96-497F-8A3E-5ECF1823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0D07-8E83-4463-93BD-B0C50AB484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13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11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12.xml"/><Relationship Id="rId19" Type="http://schemas.openxmlformats.org/officeDocument/2006/relationships/slide" Target="slide22.xml"/><Relationship Id="rId20" Type="http://schemas.openxmlformats.org/officeDocument/2006/relationships/image" Target="../media/image1.jpeg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Quiz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495680"/>
            <a:ext cx="7924680" cy="1008360"/>
          </a:xfrm>
          <a:prstGeom prst="rect">
            <a:avLst/>
          </a:prstGeom>
          <a:noFill/>
          <a:ln cap="rnd" w="7632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Final Revie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09480"/>
            <a:ext cx="3886200" cy="459720"/>
          </a:xfrm>
          <a:prstGeom prst="rect">
            <a:avLst/>
          </a:prstGeom>
          <a:noFill/>
          <a:ln cap="rnd" w="57240">
            <a:solidFill>
              <a:srgbClr val="ffe70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Espa</a:t>
            </a:r>
            <a:r>
              <a:rPr b="1" lang="en-US" sz="24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ñ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371600"/>
            <a:ext cx="36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e701"/>
                </a:solidFill>
                <a:latin typeface="Comic Sans MS"/>
              </a:rPr>
              <a:t>FINAL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2133720" y="5867280"/>
            <a:ext cx="4952880" cy="457200"/>
          </a:xfrm>
          <a:custGeom>
            <a:avLst/>
            <a:gdLst>
              <a:gd name="textAreaLeft" fmla="*/ 29520 w 4952880"/>
              <a:gd name="textAreaRight" fmla="*/ 4923360 w 4952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3827" h="21600">
                <a:moveTo>
                  <a:pt x="0" y="0"/>
                </a:moveTo>
                <a:lnTo>
                  <a:pt x="233827" y="0"/>
                </a:lnTo>
                <a:lnTo>
                  <a:pt x="233827" y="21600"/>
                </a:lnTo>
                <a:lnTo>
                  <a:pt x="0" y="21600"/>
                </a:lnTo>
                <a:close/>
              </a:path>
              <a:path fill="lightenLess" w="233827" h="21600">
                <a:moveTo>
                  <a:pt x="0" y="0"/>
                </a:moveTo>
                <a:lnTo>
                  <a:pt x="233827" y="0"/>
                </a:lnTo>
                <a:lnTo>
                  <a:pt x="232427" y="1400"/>
                </a:lnTo>
                <a:lnTo>
                  <a:pt x="1400" y="1400"/>
                </a:lnTo>
                <a:close/>
              </a:path>
              <a:path fill="darken" w="233827" h="21600">
                <a:moveTo>
                  <a:pt x="233827" y="0"/>
                </a:moveTo>
                <a:lnTo>
                  <a:pt x="233827" y="21600"/>
                </a:lnTo>
                <a:lnTo>
                  <a:pt x="232427" y="20200"/>
                </a:lnTo>
                <a:lnTo>
                  <a:pt x="232427" y="1400"/>
                </a:lnTo>
                <a:close/>
              </a:path>
              <a:path fill="darkenLess" w="233827" h="21600">
                <a:moveTo>
                  <a:pt x="233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27" y="20200"/>
                </a:lnTo>
                <a:close/>
              </a:path>
              <a:path fill="lighten" w="233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Comic Sans MS"/>
              </a:rPr>
              <a:t>Let’s play JEOPARD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22096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0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1219320"/>
            <a:ext cx="5943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late to Spanish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 ride a bi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 play s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 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6934320" y="594360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5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20574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n infinitive and what are the three types of infinitives in Spanis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30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743200"/>
            <a:ext cx="40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is an action or be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12952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ver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998"/>
                            </p:stCondLst>
                            <p:childTnLst>
                              <p:par>
                                <p:cTn id="501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38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3526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217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the 5 different verb endings that you use to conjugate a verb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998"/>
                            </p:stCondLst>
                            <p:childTnLst>
                              <p:par>
                                <p:cTn id="56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46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581280"/>
            <a:ext cx="5943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547560"/>
            <a:ext cx="7010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e following sentenc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cuchamos 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úsic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los tocan la guitar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 uso la computado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768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768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998"/>
                            </p:stCondLst>
                            <p:childTnLst>
                              <p:par>
                                <p:cTn id="63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4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into Englis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bl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768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768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4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6" dur="76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998"/>
                            </p:stCondLst>
                            <p:childTnLst>
                              <p:par>
                                <p:cTn id="699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1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3809880"/>
            <a:ext cx="327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by conjugating the verb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da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0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2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4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998"/>
                            </p:stCondLst>
                            <p:childTnLst>
                              <p:par>
                                <p:cTn id="74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9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by conjugating the verb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sana and Carlota swi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998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77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55304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cesito un 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ápiz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768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2" dur="768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4" dur="76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6" dur="76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998"/>
                            </p:stCondLst>
                            <p:childTnLst>
                              <p:par>
                                <p:cTn id="879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85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cesitas una carpeta de argolla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8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0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2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998"/>
                            </p:stCondLst>
                            <p:childTnLst>
                              <p:par>
                                <p:cTn id="945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76212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76212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12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76212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76212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8" action="ppaction://hlinksldjump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>
            <a:hlinkClick r:id="rId9" action="ppaction://hlinksldjump"/>
          </p:cNvPr>
          <p:cNvSpPr/>
          <p:nvPr/>
        </p:nvSpPr>
        <p:spPr>
          <a:xfrm>
            <a:off x="3809880" y="1600200"/>
            <a:ext cx="1524240" cy="99072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8" h="21600">
                <a:moveTo>
                  <a:pt x="0" y="0"/>
                </a:moveTo>
                <a:lnTo>
                  <a:pt x="33228" y="0"/>
                </a:lnTo>
                <a:lnTo>
                  <a:pt x="33228" y="21600"/>
                </a:lnTo>
                <a:lnTo>
                  <a:pt x="0" y="21600"/>
                </a:lnTo>
                <a:close/>
              </a:path>
              <a:path fill="lightenLess" w="33228" h="21600">
                <a:moveTo>
                  <a:pt x="0" y="0"/>
                </a:moveTo>
                <a:lnTo>
                  <a:pt x="33228" y="0"/>
                </a:lnTo>
                <a:lnTo>
                  <a:pt x="31828" y="1400"/>
                </a:lnTo>
                <a:lnTo>
                  <a:pt x="1400" y="1400"/>
                </a:lnTo>
                <a:close/>
              </a:path>
              <a:path fill="darken" w="33228" h="21600">
                <a:moveTo>
                  <a:pt x="33228" y="0"/>
                </a:moveTo>
                <a:lnTo>
                  <a:pt x="33228" y="21600"/>
                </a:lnTo>
                <a:lnTo>
                  <a:pt x="31828" y="20200"/>
                </a:lnTo>
                <a:lnTo>
                  <a:pt x="31828" y="1400"/>
                </a:lnTo>
                <a:close/>
              </a:path>
              <a:path fill="darkenLess" w="33228" h="21600">
                <a:moveTo>
                  <a:pt x="33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8" y="20200"/>
                </a:lnTo>
                <a:close/>
              </a:path>
              <a:path fill="lighten" w="33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6002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>
            <a:hlinkClick r:id="rId10" action="ppaction://hlinksldjump"/>
          </p:cNvPr>
          <p:cNvSpPr/>
          <p:nvPr/>
        </p:nvSpPr>
        <p:spPr>
          <a:xfrm>
            <a:off x="228600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>
            <a:hlinkClick r:id="rId11" action="ppaction://hlinksldjump"/>
          </p:cNvPr>
          <p:cNvSpPr/>
          <p:nvPr/>
        </p:nvSpPr>
        <p:spPr>
          <a:xfrm>
            <a:off x="3809880" y="25909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5909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>
            <a:hlinkClick r:id="rId12" action="ppaction://hlinksldjump"/>
          </p:cNvPr>
          <p:cNvSpPr/>
          <p:nvPr/>
        </p:nvSpPr>
        <p:spPr>
          <a:xfrm>
            <a:off x="228600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>
            <a:hlinkClick r:id="rId13" action="ppaction://hlinksldjump"/>
          </p:cNvPr>
          <p:cNvSpPr/>
          <p:nvPr/>
        </p:nvSpPr>
        <p:spPr>
          <a:xfrm>
            <a:off x="3809880" y="3581280"/>
            <a:ext cx="1524240" cy="99072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8" h="21600">
                <a:moveTo>
                  <a:pt x="0" y="0"/>
                </a:moveTo>
                <a:lnTo>
                  <a:pt x="33228" y="0"/>
                </a:lnTo>
                <a:lnTo>
                  <a:pt x="33228" y="21600"/>
                </a:lnTo>
                <a:lnTo>
                  <a:pt x="0" y="21600"/>
                </a:lnTo>
                <a:close/>
              </a:path>
              <a:path fill="lightenLess" w="33228" h="21600">
                <a:moveTo>
                  <a:pt x="0" y="0"/>
                </a:moveTo>
                <a:lnTo>
                  <a:pt x="33228" y="0"/>
                </a:lnTo>
                <a:lnTo>
                  <a:pt x="31828" y="1400"/>
                </a:lnTo>
                <a:lnTo>
                  <a:pt x="1400" y="1400"/>
                </a:lnTo>
                <a:close/>
              </a:path>
              <a:path fill="darken" w="33228" h="21600">
                <a:moveTo>
                  <a:pt x="33228" y="0"/>
                </a:moveTo>
                <a:lnTo>
                  <a:pt x="33228" y="21600"/>
                </a:lnTo>
                <a:lnTo>
                  <a:pt x="31828" y="20200"/>
                </a:lnTo>
                <a:lnTo>
                  <a:pt x="31828" y="1400"/>
                </a:lnTo>
                <a:close/>
              </a:path>
              <a:path fill="darkenLess" w="33228" h="21600">
                <a:moveTo>
                  <a:pt x="33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8" y="20200"/>
                </a:lnTo>
                <a:close/>
              </a:path>
              <a:path fill="lighten" w="33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>
            <a:hlinkClick r:id="rId14" action="ppaction://hlinksldjump"/>
          </p:cNvPr>
          <p:cNvSpPr/>
          <p:nvPr/>
        </p:nvSpPr>
        <p:spPr>
          <a:xfrm>
            <a:off x="533412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358128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>
            <a:hlinkClick r:id="rId15" action="ppaction://hlinksldjump"/>
          </p:cNvPr>
          <p:cNvSpPr/>
          <p:nvPr/>
        </p:nvSpPr>
        <p:spPr>
          <a:xfrm>
            <a:off x="228600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>
            <a:hlinkClick r:id="rId16" action="ppaction://hlinksldjump"/>
          </p:cNvPr>
          <p:cNvSpPr/>
          <p:nvPr/>
        </p:nvSpPr>
        <p:spPr>
          <a:xfrm>
            <a:off x="3809880" y="4572000"/>
            <a:ext cx="1524240" cy="99072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8" h="21600">
                <a:moveTo>
                  <a:pt x="0" y="0"/>
                </a:moveTo>
                <a:lnTo>
                  <a:pt x="33228" y="0"/>
                </a:lnTo>
                <a:lnTo>
                  <a:pt x="33228" y="21600"/>
                </a:lnTo>
                <a:lnTo>
                  <a:pt x="0" y="21600"/>
                </a:lnTo>
                <a:close/>
              </a:path>
              <a:path fill="lightenLess" w="33228" h="21600">
                <a:moveTo>
                  <a:pt x="0" y="0"/>
                </a:moveTo>
                <a:lnTo>
                  <a:pt x="33228" y="0"/>
                </a:lnTo>
                <a:lnTo>
                  <a:pt x="31828" y="1400"/>
                </a:lnTo>
                <a:lnTo>
                  <a:pt x="1400" y="1400"/>
                </a:lnTo>
                <a:close/>
              </a:path>
              <a:path fill="darken" w="33228" h="21600">
                <a:moveTo>
                  <a:pt x="33228" y="0"/>
                </a:moveTo>
                <a:lnTo>
                  <a:pt x="33228" y="21600"/>
                </a:lnTo>
                <a:lnTo>
                  <a:pt x="31828" y="20200"/>
                </a:lnTo>
                <a:lnTo>
                  <a:pt x="31828" y="1400"/>
                </a:lnTo>
                <a:close/>
              </a:path>
              <a:path fill="darkenLess" w="33228" h="21600">
                <a:moveTo>
                  <a:pt x="33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8" y="20200"/>
                </a:lnTo>
                <a:close/>
              </a:path>
              <a:path fill="lighten" w="33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>
            <a:hlinkClick r:id="rId17" action="ppaction://hlinksldjump"/>
          </p:cNvPr>
          <p:cNvSpPr/>
          <p:nvPr/>
        </p:nvSpPr>
        <p:spPr>
          <a:xfrm>
            <a:off x="533412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457200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>
            <a:hlinkClick r:id="rId18" action="ppaction://hlinksldjump"/>
          </p:cNvPr>
          <p:cNvSpPr/>
          <p:nvPr/>
        </p:nvSpPr>
        <p:spPr>
          <a:xfrm>
            <a:off x="228600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562720"/>
            <a:ext cx="1524240" cy="990360"/>
          </a:xfrm>
          <a:custGeom>
            <a:avLst/>
            <a:gdLst>
              <a:gd name="textAreaLeft" fmla="*/ 64080 w 1524240"/>
              <a:gd name="textAreaRight" fmla="*/ 1460160 w 15242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40" h="21600">
                <a:moveTo>
                  <a:pt x="0" y="0"/>
                </a:moveTo>
                <a:lnTo>
                  <a:pt x="33240" y="0"/>
                </a:lnTo>
                <a:lnTo>
                  <a:pt x="33240" y="21600"/>
                </a:lnTo>
                <a:lnTo>
                  <a:pt x="0" y="21600"/>
                </a:lnTo>
                <a:close/>
              </a:path>
              <a:path fill="lightenLess" w="33240" h="21600">
                <a:moveTo>
                  <a:pt x="0" y="0"/>
                </a:moveTo>
                <a:lnTo>
                  <a:pt x="33240" y="0"/>
                </a:lnTo>
                <a:lnTo>
                  <a:pt x="31840" y="1400"/>
                </a:lnTo>
                <a:lnTo>
                  <a:pt x="1400" y="1400"/>
                </a:lnTo>
                <a:close/>
              </a:path>
              <a:path fill="darken" w="33240" h="21600">
                <a:moveTo>
                  <a:pt x="33240" y="0"/>
                </a:moveTo>
                <a:lnTo>
                  <a:pt x="33240" y="21600"/>
                </a:lnTo>
                <a:lnTo>
                  <a:pt x="31840" y="20200"/>
                </a:lnTo>
                <a:lnTo>
                  <a:pt x="31840" y="1400"/>
                </a:lnTo>
                <a:close/>
              </a:path>
              <a:path fill="darkenLess" w="33240" h="21600">
                <a:moveTo>
                  <a:pt x="33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40" y="20200"/>
                </a:lnTo>
                <a:close/>
              </a:path>
              <a:path fill="lighten" w="33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>
            <a:hlinkClick r:id="rId19" action="ppaction://hlinksldjump"/>
          </p:cNvPr>
          <p:cNvSpPr/>
          <p:nvPr/>
        </p:nvSpPr>
        <p:spPr>
          <a:xfrm>
            <a:off x="533412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55627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533520" y="0"/>
            <a:ext cx="815328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20112000">
            <a:off x="5029560" y="22824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e701"/>
                </a:solidFill>
                <a:latin typeface="Comic Sans MS"/>
              </a:rPr>
              <a:t>MAP QUIZ REVIEW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295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nou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1295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1295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jug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12952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1295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93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ese word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le, computer, pencil sharpen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768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4" dur="768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6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8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998"/>
                            </p:stCondLst>
                            <p:childTnLst>
                              <p:par>
                                <p:cTn id="1011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01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217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e needs a teac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768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0" dur="768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2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4" dur="76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998"/>
                            </p:stCondLst>
                            <p:childTnLst>
                              <p:par>
                                <p:cTn id="107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chool Suppl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09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809880"/>
            <a:ext cx="5334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 calculator is in my backpack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768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6" dur="768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8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0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998"/>
                            </p:stCondLst>
                            <p:childTnLst>
                              <p:par>
                                <p:cTn id="114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17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217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jug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     -       can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768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2" dur="768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4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6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998"/>
                            </p:stCondLst>
                            <p:childTnLst>
                              <p:par>
                                <p:cTn id="1209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25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21788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juga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é     -      montar en bicicle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998"/>
                            </p:stCondLst>
                            <p:childTnLst>
                              <p:par>
                                <p:cTn id="1275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33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304812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55304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conjugation anyw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0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768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4" dur="768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6" dur="76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8" dur="76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998"/>
                            </p:stCondLst>
                            <p:childTnLst>
                              <p:par>
                                <p:cTn id="1341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41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8827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this sentence by conjugating the verb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sana and Carlota swi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768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0" dur="768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2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4" dur="76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998"/>
                            </p:stCondLst>
                            <p:childTnLst>
                              <p:par>
                                <p:cTn id="1407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More Conjugatio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49" name=""/>
          <p:cNvSpPr/>
          <p:nvPr/>
        </p:nvSpPr>
        <p:spPr>
          <a:xfrm>
            <a:off x="0" y="58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266688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3809880"/>
            <a:ext cx="426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1295280"/>
            <a:ext cx="54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547560"/>
            <a:ext cx="7010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late by conjugating the verb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udent practices socc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0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768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6" dur="768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8" dur="76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0" dur="76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998"/>
                            </p:stCondLst>
                            <p:childTnLst>
                              <p:par>
                                <p:cTn id="1473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2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2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onouns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2743200"/>
            <a:ext cx="5410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to a friend or other familiar person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1676520"/>
            <a:ext cx="525780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Pronouns-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057400"/>
            <a:ext cx="6096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29528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ifference between Él and Ell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998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onouns - $3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6934320" y="62485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13716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4479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osotr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627280"/>
            <a:ext cx="67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701"/>
                </a:solidFill>
                <a:latin typeface="Arial"/>
              </a:rPr>
              <a:t>Pronouns - $4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2286000"/>
            <a:ext cx="693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Usted is used with someone older than you or to show respect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137160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know when to use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nd when to use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us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998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Pronouns - $5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701"/>
                </a:solidFill>
                <a:latin typeface="Arial"/>
              </a:rPr>
              <a:t>To take the place of a noun, or to show who is doing the actio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121932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use pronou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bs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1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312408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10666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990720"/>
            <a:ext cx="5638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d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udi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i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Verb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- $20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7010280" y="62485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13" name=""/>
          <p:cNvSpPr/>
          <p:nvPr/>
        </p:nvSpPr>
        <p:spPr>
          <a:xfrm>
            <a:off x="10666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048120"/>
            <a:ext cx="487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o work, to draw, to listen to music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0" y="914400"/>
            <a:ext cx="4876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baj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buj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scuchar 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ús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23:40:10Z</dcterms:created>
  <dc:creator>Infotech</dc:creator>
  <dc:description/>
  <dc:language>en-US</dc:language>
  <cp:lastModifiedBy>Catherine  Savage</cp:lastModifiedBy>
  <dcterms:modified xsi:type="dcterms:W3CDTF">2009-05-19T14:19:14Z</dcterms:modified>
  <cp:revision>18</cp:revision>
  <dc:subject/>
  <dc:title>JEOPARDY</dc:title>
</cp:coreProperties>
</file>