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BE5-73F6-4A20-9F4A-395FC12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945-B924-4580-95B8-CB368A6D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7AF-5091-46CE-BE56-90E7047D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C91-AE1E-4421-9DB6-DD701948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A96-64B9-4CF4-A11D-76F30073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A5C-1603-4563-8252-1F9674B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1E0-D287-49F7-8EC6-47ADAD2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8FE-1776-49F7-9669-71662707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9D0-2DED-406A-808B-C6D27BDE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225-E0C2-4CC3-B6C4-F2E209F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BEE-2F39-4682-B2A4-9EF42905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82E-1C8C-49A6-AF9C-9C4A545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C9E-B375-465A-A9C3-9596B1C765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12.xml"/><Relationship Id="rId19" Type="http://schemas.openxmlformats.org/officeDocument/2006/relationships/slide" Target="slide22.xml"/><Relationship Id="rId20" Type="http://schemas.openxmlformats.org/officeDocument/2006/relationships/image" Target="../media/image1.jpe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Quiz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95680"/>
            <a:ext cx="7924680" cy="100836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Final Re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09480"/>
            <a:ext cx="3886200" cy="459720"/>
          </a:xfrm>
          <a:prstGeom prst="rect">
            <a:avLst/>
          </a:prstGeom>
          <a:noFill/>
          <a:ln cap="rnd" w="57240">
            <a:solidFill>
              <a:srgbClr val="ffe70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spa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37160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FIN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2133720" y="5867280"/>
            <a:ext cx="4952880" cy="457200"/>
          </a:xfrm>
          <a:custGeom>
            <a:avLst/>
            <a:gdLst>
              <a:gd name="textAreaLeft" fmla="*/ 29520 w 4952880"/>
              <a:gd name="textAreaRight" fmla="*/ 4923360 w 4952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3827" h="21600">
                <a:moveTo>
                  <a:pt x="0" y="0"/>
                </a:moveTo>
                <a:lnTo>
                  <a:pt x="233827" y="0"/>
                </a:lnTo>
                <a:lnTo>
                  <a:pt x="233827" y="21600"/>
                </a:lnTo>
                <a:lnTo>
                  <a:pt x="0" y="21600"/>
                </a:lnTo>
                <a:close/>
              </a:path>
              <a:path fill="lightenLess" w="233827" h="21600">
                <a:moveTo>
                  <a:pt x="0" y="0"/>
                </a:moveTo>
                <a:lnTo>
                  <a:pt x="233827" y="0"/>
                </a:lnTo>
                <a:lnTo>
                  <a:pt x="232427" y="1400"/>
                </a:lnTo>
                <a:lnTo>
                  <a:pt x="1400" y="1400"/>
                </a:lnTo>
                <a:close/>
              </a:path>
              <a:path fill="darken" w="233827" h="21600">
                <a:moveTo>
                  <a:pt x="233827" y="0"/>
                </a:moveTo>
                <a:lnTo>
                  <a:pt x="233827" y="21600"/>
                </a:lnTo>
                <a:lnTo>
                  <a:pt x="232427" y="20200"/>
                </a:lnTo>
                <a:lnTo>
                  <a:pt x="232427" y="1400"/>
                </a:lnTo>
                <a:close/>
              </a:path>
              <a:path fill="darkenLess" w="233827" h="21600">
                <a:moveTo>
                  <a:pt x="23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27" y="20200"/>
                </a:lnTo>
                <a:close/>
              </a:path>
              <a:path fill="lighten" w="23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Comic Sans MS"/>
              </a:rPr>
              <a:t>Let’s play JEOPAR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09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219320"/>
            <a:ext cx="5943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 to Spanis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e a bi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lay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6934320" y="59436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0574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nfinitive and what are the three types of infinitives in Spa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is an action or be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12952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98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8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3526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5 different verb endings that you use to conjugate a ver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98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6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8128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 following sent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cuchamos 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los tocan la guitar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uso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98"/>
                            </p:stCondLst>
                            <p:childTnLst>
                              <p:par>
                                <p:cTn id="63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4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into Englis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bl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98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098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da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998"/>
                            </p:stCondLst>
                            <p:childTnLst>
                              <p:par>
                                <p:cTn id="74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998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o un 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piz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998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as una carpeta de argoll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998"/>
                            </p:stCondLst>
                            <p:childTnLst>
                              <p:par>
                                <p:cTn id="94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762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62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62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762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3809880" y="16002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2286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3809880" y="2590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2286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3809880" y="358128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5334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2286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16" action="ppaction://hlinksldjump"/>
          </p:cNvPr>
          <p:cNvSpPr/>
          <p:nvPr/>
        </p:nvSpPr>
        <p:spPr>
          <a:xfrm>
            <a:off x="3809880" y="45720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rId17" action="ppaction://hlinksldjump"/>
          </p:cNvPr>
          <p:cNvSpPr/>
          <p:nvPr/>
        </p:nvSpPr>
        <p:spPr>
          <a:xfrm>
            <a:off x="5334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2286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5334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533520" y="0"/>
            <a:ext cx="81532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112000">
            <a:off x="5029560" y="228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MAP QUIZ REVIE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nou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1295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295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se word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, computer, pencil sharpe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998"/>
                            </p:stCondLst>
                            <p:childTnLst>
                              <p:par>
                                <p:cTn id="101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needs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998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80988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calculator is in my backpac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    -       ca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4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6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998"/>
                            </p:stCondLst>
                            <p:childTnLst>
                              <p:par>
                                <p:cTn id="120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78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     -      montar en bicicle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998"/>
                            </p:stCondLst>
                            <p:childTnLst>
                              <p:par>
                                <p:cTn id="127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0481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conjugation anyw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768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768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6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8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998"/>
                            </p:stCondLst>
                            <p:childTnLst>
                              <p:par>
                                <p:cTn id="134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0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2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4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0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by conjugating the verb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 practices socc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68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6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743200"/>
            <a:ext cx="5410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to a friend or other familiar person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676520"/>
            <a:ext cx="52578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-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057400"/>
            <a:ext cx="6096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295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ifference between Él and Ell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98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34320" y="62485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371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79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sotr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2728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693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ted is used with someone older than you or to show respec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3716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know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us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o take the place of a noun, or to show who is doing the acti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2193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use prono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s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1240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066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990720"/>
            <a:ext cx="5638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3" name=""/>
          <p:cNvSpPr/>
          <p:nvPr/>
        </p:nvSpPr>
        <p:spPr>
          <a:xfrm>
            <a:off x="10666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04812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work, to draw, to listen to music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91440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ba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bu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cuchar 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3:40:10Z</dcterms:created>
  <dc:creator>Infotech</dc:creator>
  <dc:description/>
  <dc:language>en-US</dc:language>
  <cp:lastModifiedBy>Catherine  Savage</cp:lastModifiedBy>
  <dcterms:modified xsi:type="dcterms:W3CDTF">2009-05-19T14:19:14Z</dcterms:modified>
  <cp:revision>18</cp:revision>
  <dc:subject/>
  <dc:title>JEOPARDY</dc:title>
</cp:coreProperties>
</file>