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D3CC-7DF0-4D2B-8A44-7964F9094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3E4B-69FF-4CC9-9E5E-7241A766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3E4C-C28D-4E17-8BF7-E2D0AEE27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ABA4-E554-44BE-9E65-8E35ED4E2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1974-1A5C-4BA3-BA91-1C9B9336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669A-8872-4C91-AD25-76958F8A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8B46-B1C4-4438-B114-D06549BA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B9BE-1746-4A9E-828E-357232C7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236E-1215-4C16-9F19-1C00F7F6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F608-92AD-4366-83F8-BD4D3422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7D6F-1206-4CE6-BDD3-A755CCB4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77D5-F4A5-4140-814B-CE47B21E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04AF-542B-4E59-ADF9-81C11FD5B7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13.xml"/><Relationship Id="rId10" Type="http://schemas.openxmlformats.org/officeDocument/2006/relationships/slide" Target="slide9.xml"/><Relationship Id="rId11" Type="http://schemas.openxmlformats.org/officeDocument/2006/relationships/slide" Target="slide14.xml"/><Relationship Id="rId12" Type="http://schemas.openxmlformats.org/officeDocument/2006/relationships/slide" Target="slide10.xml"/><Relationship Id="rId13" Type="http://schemas.openxmlformats.org/officeDocument/2006/relationships/slide" Target="slide15.xml"/><Relationship Id="rId14" Type="http://schemas.openxmlformats.org/officeDocument/2006/relationships/slide" Target="slide20.xml"/><Relationship Id="rId15" Type="http://schemas.openxmlformats.org/officeDocument/2006/relationships/slide" Target="slide11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12.xml"/><Relationship Id="rId19" Type="http://schemas.openxmlformats.org/officeDocument/2006/relationships/slide" Target="slide22.xml"/><Relationship Id="rId20" Type="http://schemas.openxmlformats.org/officeDocument/2006/relationships/image" Target="../media/image1.jpeg"/><Relationship Id="rId21" Type="http://schemas.openxmlformats.org/officeDocument/2006/relationships/audio" Target="../media/chimes.wav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JEOPAR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p Quiz Re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3657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4495680"/>
            <a:ext cx="7924680" cy="1008360"/>
          </a:xfrm>
          <a:prstGeom prst="rect">
            <a:avLst/>
          </a:prstGeom>
          <a:noFill/>
          <a:ln cap="rnd" w="76320">
            <a:solidFill>
              <a:srgbClr val="00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Final Review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609480"/>
            <a:ext cx="3886200" cy="459720"/>
          </a:xfrm>
          <a:prstGeom prst="rect">
            <a:avLst/>
          </a:prstGeom>
          <a:noFill/>
          <a:ln cap="rnd" w="57240">
            <a:solidFill>
              <a:srgbClr val="ffe70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Espa</a:t>
            </a:r>
            <a:r>
              <a:rPr b="1" lang="en-US" sz="2400" spc="-1" strike="noStrike">
                <a:solidFill>
                  <a:srgbClr val="ffe701"/>
                </a:solidFill>
                <a:latin typeface="Arial"/>
                <a:ea typeface="ＭＳ Ｐゴシック"/>
              </a:rPr>
              <a:t>ñ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1371600"/>
            <a:ext cx="36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e701"/>
                </a:solidFill>
                <a:latin typeface="Comic Sans MS"/>
              </a:rPr>
              <a:t>FINAL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2133720" y="5867280"/>
            <a:ext cx="4952880" cy="457200"/>
          </a:xfrm>
          <a:custGeom>
            <a:avLst/>
            <a:gdLst>
              <a:gd name="textAreaLeft" fmla="*/ 29520 w 4952880"/>
              <a:gd name="textAreaRight" fmla="*/ 4923360 w 4952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33827" h="21600">
                <a:moveTo>
                  <a:pt x="0" y="0"/>
                </a:moveTo>
                <a:lnTo>
                  <a:pt x="233827" y="0"/>
                </a:lnTo>
                <a:lnTo>
                  <a:pt x="233827" y="21600"/>
                </a:lnTo>
                <a:lnTo>
                  <a:pt x="0" y="21600"/>
                </a:lnTo>
                <a:close/>
              </a:path>
              <a:path fill="lightenLess" w="233827" h="21600">
                <a:moveTo>
                  <a:pt x="0" y="0"/>
                </a:moveTo>
                <a:lnTo>
                  <a:pt x="233827" y="0"/>
                </a:lnTo>
                <a:lnTo>
                  <a:pt x="232427" y="1400"/>
                </a:lnTo>
                <a:lnTo>
                  <a:pt x="1400" y="1400"/>
                </a:lnTo>
                <a:close/>
              </a:path>
              <a:path fill="darken" w="233827" h="21600">
                <a:moveTo>
                  <a:pt x="233827" y="0"/>
                </a:moveTo>
                <a:lnTo>
                  <a:pt x="233827" y="21600"/>
                </a:lnTo>
                <a:lnTo>
                  <a:pt x="232427" y="20200"/>
                </a:lnTo>
                <a:lnTo>
                  <a:pt x="232427" y="1400"/>
                </a:lnTo>
                <a:close/>
              </a:path>
              <a:path fill="darkenLess" w="233827" h="21600">
                <a:moveTo>
                  <a:pt x="2338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27" y="20200"/>
                </a:lnTo>
                <a:close/>
              </a:path>
              <a:path fill="lighten" w="2338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Comic Sans MS"/>
              </a:rPr>
              <a:t>Let’s play JEOPARD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Verbs- $3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2209680"/>
            <a:ext cx="480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20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1219320"/>
            <a:ext cx="59436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anslate to Spanish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ride a bik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 play s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76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768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2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4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Verbs - $4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6934320" y="5943600"/>
            <a:ext cx="1981080" cy="457200"/>
          </a:xfrm>
          <a:custGeom>
            <a:avLst/>
            <a:gdLst>
              <a:gd name="textAreaLeft" fmla="*/ 29520 w 1981080"/>
              <a:gd name="textAreaRight" fmla="*/ 1951560 w 1981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38" h="21600">
                <a:moveTo>
                  <a:pt x="0" y="0"/>
                </a:moveTo>
                <a:lnTo>
                  <a:pt x="93538" y="0"/>
                </a:lnTo>
                <a:lnTo>
                  <a:pt x="93538" y="21600"/>
                </a:lnTo>
                <a:lnTo>
                  <a:pt x="0" y="21600"/>
                </a:lnTo>
                <a:close/>
              </a:path>
              <a:path fill="lightenLess" w="93538" h="21600">
                <a:moveTo>
                  <a:pt x="0" y="0"/>
                </a:moveTo>
                <a:lnTo>
                  <a:pt x="93538" y="0"/>
                </a:lnTo>
                <a:lnTo>
                  <a:pt x="92138" y="1400"/>
                </a:lnTo>
                <a:lnTo>
                  <a:pt x="1400" y="1400"/>
                </a:lnTo>
                <a:close/>
              </a:path>
              <a:path fill="darken" w="93538" h="21600">
                <a:moveTo>
                  <a:pt x="93538" y="0"/>
                </a:moveTo>
                <a:lnTo>
                  <a:pt x="93538" y="21600"/>
                </a:lnTo>
                <a:lnTo>
                  <a:pt x="92138" y="20200"/>
                </a:lnTo>
                <a:lnTo>
                  <a:pt x="92138" y="1400"/>
                </a:lnTo>
                <a:close/>
              </a:path>
              <a:path fill="darkenLess" w="93538" h="21600">
                <a:moveTo>
                  <a:pt x="93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38" y="20200"/>
                </a:lnTo>
                <a:close/>
              </a:path>
              <a:path fill="lighten" w="93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25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205740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n infinitive and what are the three types of infinitives in Spanis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768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3" dur="768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5" dur="76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7" dur="76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Verbs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5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30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2514600"/>
            <a:ext cx="2362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743200"/>
            <a:ext cx="403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verb is an action or be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129528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 verb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768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4" dur="768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6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8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998"/>
                            </p:stCondLst>
                            <p:childTnLst>
                              <p:par>
                                <p:cTn id="501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Conjugatio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1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38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352680"/>
            <a:ext cx="3276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1217880"/>
            <a:ext cx="7010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re the 5 different verb endings that you use to conjugate a verb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768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0" dur="768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2" dur="76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4" dur="76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998"/>
                            </p:stCondLst>
                            <p:childTnLst>
                              <p:par>
                                <p:cTn id="567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9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Conjugatio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2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46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3581280"/>
            <a:ext cx="5943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547560"/>
            <a:ext cx="7010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 the following sentence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cuchamos 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úsic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llos tocan la guitarr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 uso la computador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768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6" dur="768" fill="hold"/>
                                        <p:tgtEl>
                                          <p:spTgt spid="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8" dur="768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0" dur="768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998"/>
                            </p:stCondLst>
                            <p:childTnLst>
                              <p:par>
                                <p:cTn id="633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6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Conjugatio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3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54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882720"/>
            <a:ext cx="7010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 this sentence into English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blo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768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2" dur="768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4" dur="76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6" dur="76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998"/>
                            </p:stCondLst>
                            <p:childTnLst>
                              <p:par>
                                <p:cTn id="699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72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Conjugatio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4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61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3809880"/>
            <a:ext cx="3276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882720"/>
            <a:ext cx="7010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 this sentence by conjugating the verb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 danc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768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0" dur="768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2" dur="768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4" dur="768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998"/>
                            </p:stCondLst>
                            <p:childTnLst>
                              <p:par>
                                <p:cTn id="747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77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Conjugatio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5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69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380988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882720"/>
            <a:ext cx="7010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 this sentence by conjugating the verb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sana and Carlota swim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768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6" dur="768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8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0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998"/>
                            </p:stCondLst>
                            <p:childTnLst>
                              <p:par>
                                <p:cTn id="813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8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School Supplies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1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77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43200" y="380988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1553040"/>
            <a:ext cx="701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cesito un l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ápiz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0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768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2" dur="768" fill="hold"/>
                                        <p:tgtEl>
                                          <p:spTgt spid="1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4" dur="768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6" dur="768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1998"/>
                            </p:stCondLst>
                            <p:childTnLst>
                              <p:par>
                                <p:cTn id="879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90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2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2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School Supplies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2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85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380988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882720"/>
            <a:ext cx="7010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cesitas una carpeta de argolla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768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8" dur="768" fill="hold"/>
                                        <p:tgtEl>
                                          <p:spTgt spid="1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0" dur="768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2" dur="768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998"/>
                            </p:stCondLst>
                            <p:childTnLst>
                              <p:par>
                                <p:cTn id="945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9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2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2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762120" y="160020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2" action="ppaction://hlinksldjump"/>
              </a:rPr>
              <a:t>$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762120" y="25909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4" action="ppaction://hlinksldjump"/>
              </a:rPr>
              <a:t>$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>
            <a:hlinkClick r:id="rId5" action="ppaction://hlinksldjump"/>
          </p:cNvPr>
          <p:cNvSpPr/>
          <p:nvPr/>
        </p:nvSpPr>
        <p:spPr>
          <a:xfrm>
            <a:off x="762120" y="358128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>
            <a:hlinkClick r:id="rId6" action="ppaction://hlinksldjump"/>
          </p:cNvPr>
          <p:cNvSpPr/>
          <p:nvPr/>
        </p:nvSpPr>
        <p:spPr>
          <a:xfrm>
            <a:off x="762120" y="457200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>
            <a:hlinkClick r:id="rId7" action="ppaction://hlinksldjump"/>
          </p:cNvPr>
          <p:cNvSpPr/>
          <p:nvPr/>
        </p:nvSpPr>
        <p:spPr>
          <a:xfrm>
            <a:off x="762120" y="55627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8" action="ppaction://hlinksldjump"/>
              </a:rPr>
              <a:t>$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160020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>
            <a:hlinkClick r:id="rId9" action="ppaction://hlinksldjump"/>
          </p:cNvPr>
          <p:cNvSpPr/>
          <p:nvPr/>
        </p:nvSpPr>
        <p:spPr>
          <a:xfrm>
            <a:off x="3809880" y="1600200"/>
            <a:ext cx="1524240" cy="990720"/>
          </a:xfrm>
          <a:custGeom>
            <a:avLst/>
            <a:gdLst>
              <a:gd name="textAreaLeft" fmla="*/ 64080 w 1524240"/>
              <a:gd name="textAreaRight" fmla="*/ 1460160 w 15242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8" h="21600">
                <a:moveTo>
                  <a:pt x="0" y="0"/>
                </a:moveTo>
                <a:lnTo>
                  <a:pt x="33228" y="0"/>
                </a:lnTo>
                <a:lnTo>
                  <a:pt x="33228" y="21600"/>
                </a:lnTo>
                <a:lnTo>
                  <a:pt x="0" y="21600"/>
                </a:lnTo>
                <a:close/>
              </a:path>
              <a:path fill="lightenLess" w="33228" h="21600">
                <a:moveTo>
                  <a:pt x="0" y="0"/>
                </a:moveTo>
                <a:lnTo>
                  <a:pt x="33228" y="0"/>
                </a:lnTo>
                <a:lnTo>
                  <a:pt x="31828" y="1400"/>
                </a:lnTo>
                <a:lnTo>
                  <a:pt x="1400" y="1400"/>
                </a:lnTo>
                <a:close/>
              </a:path>
              <a:path fill="darken" w="33228" h="21600">
                <a:moveTo>
                  <a:pt x="33228" y="0"/>
                </a:moveTo>
                <a:lnTo>
                  <a:pt x="33228" y="21600"/>
                </a:lnTo>
                <a:lnTo>
                  <a:pt x="31828" y="20200"/>
                </a:lnTo>
                <a:lnTo>
                  <a:pt x="31828" y="1400"/>
                </a:lnTo>
                <a:close/>
              </a:path>
              <a:path fill="darkenLess" w="33228" h="21600">
                <a:moveTo>
                  <a:pt x="33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8" y="20200"/>
                </a:lnTo>
                <a:close/>
              </a:path>
              <a:path fill="lighten" w="33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160020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0" y="160020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>
            <a:hlinkClick r:id="rId10" action="ppaction://hlinksldjump"/>
          </p:cNvPr>
          <p:cNvSpPr/>
          <p:nvPr/>
        </p:nvSpPr>
        <p:spPr>
          <a:xfrm>
            <a:off x="2286000" y="25909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>
            <a:hlinkClick r:id="rId11" action="ppaction://hlinksldjump"/>
          </p:cNvPr>
          <p:cNvSpPr/>
          <p:nvPr/>
        </p:nvSpPr>
        <p:spPr>
          <a:xfrm>
            <a:off x="3809880" y="2590920"/>
            <a:ext cx="1524240" cy="990360"/>
          </a:xfrm>
          <a:custGeom>
            <a:avLst/>
            <a:gdLst>
              <a:gd name="textAreaLeft" fmla="*/ 64080 w 1524240"/>
              <a:gd name="textAreaRight" fmla="*/ 1460160 w 15242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40" h="21600">
                <a:moveTo>
                  <a:pt x="0" y="0"/>
                </a:moveTo>
                <a:lnTo>
                  <a:pt x="33240" y="0"/>
                </a:lnTo>
                <a:lnTo>
                  <a:pt x="33240" y="21600"/>
                </a:lnTo>
                <a:lnTo>
                  <a:pt x="0" y="21600"/>
                </a:lnTo>
                <a:close/>
              </a:path>
              <a:path fill="lightenLess" w="33240" h="21600">
                <a:moveTo>
                  <a:pt x="0" y="0"/>
                </a:moveTo>
                <a:lnTo>
                  <a:pt x="33240" y="0"/>
                </a:lnTo>
                <a:lnTo>
                  <a:pt x="31840" y="1400"/>
                </a:lnTo>
                <a:lnTo>
                  <a:pt x="1400" y="1400"/>
                </a:lnTo>
                <a:close/>
              </a:path>
              <a:path fill="darken" w="33240" h="21600">
                <a:moveTo>
                  <a:pt x="33240" y="0"/>
                </a:moveTo>
                <a:lnTo>
                  <a:pt x="33240" y="21600"/>
                </a:lnTo>
                <a:lnTo>
                  <a:pt x="31840" y="20200"/>
                </a:lnTo>
                <a:lnTo>
                  <a:pt x="31840" y="1400"/>
                </a:lnTo>
                <a:close/>
              </a:path>
              <a:path fill="darkenLess" w="33240" h="21600">
                <a:moveTo>
                  <a:pt x="33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40" y="20200"/>
                </a:lnTo>
                <a:close/>
              </a:path>
              <a:path fill="lighten" w="33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25909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0" y="25909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>
            <a:hlinkClick r:id="rId12" action="ppaction://hlinksldjump"/>
          </p:cNvPr>
          <p:cNvSpPr/>
          <p:nvPr/>
        </p:nvSpPr>
        <p:spPr>
          <a:xfrm>
            <a:off x="2286000" y="358128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>
            <a:hlinkClick r:id="rId13" action="ppaction://hlinksldjump"/>
          </p:cNvPr>
          <p:cNvSpPr/>
          <p:nvPr/>
        </p:nvSpPr>
        <p:spPr>
          <a:xfrm>
            <a:off x="3809880" y="3581280"/>
            <a:ext cx="1524240" cy="990720"/>
          </a:xfrm>
          <a:custGeom>
            <a:avLst/>
            <a:gdLst>
              <a:gd name="textAreaLeft" fmla="*/ 64080 w 1524240"/>
              <a:gd name="textAreaRight" fmla="*/ 1460160 w 15242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8" h="21600">
                <a:moveTo>
                  <a:pt x="0" y="0"/>
                </a:moveTo>
                <a:lnTo>
                  <a:pt x="33228" y="0"/>
                </a:lnTo>
                <a:lnTo>
                  <a:pt x="33228" y="21600"/>
                </a:lnTo>
                <a:lnTo>
                  <a:pt x="0" y="21600"/>
                </a:lnTo>
                <a:close/>
              </a:path>
              <a:path fill="lightenLess" w="33228" h="21600">
                <a:moveTo>
                  <a:pt x="0" y="0"/>
                </a:moveTo>
                <a:lnTo>
                  <a:pt x="33228" y="0"/>
                </a:lnTo>
                <a:lnTo>
                  <a:pt x="31828" y="1400"/>
                </a:lnTo>
                <a:lnTo>
                  <a:pt x="1400" y="1400"/>
                </a:lnTo>
                <a:close/>
              </a:path>
              <a:path fill="darken" w="33228" h="21600">
                <a:moveTo>
                  <a:pt x="33228" y="0"/>
                </a:moveTo>
                <a:lnTo>
                  <a:pt x="33228" y="21600"/>
                </a:lnTo>
                <a:lnTo>
                  <a:pt x="31828" y="20200"/>
                </a:lnTo>
                <a:lnTo>
                  <a:pt x="31828" y="1400"/>
                </a:lnTo>
                <a:close/>
              </a:path>
              <a:path fill="darkenLess" w="33228" h="21600">
                <a:moveTo>
                  <a:pt x="33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8" y="20200"/>
                </a:lnTo>
                <a:close/>
              </a:path>
              <a:path fill="lighten" w="33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>
            <a:hlinkClick r:id="rId14" action="ppaction://hlinksldjump"/>
          </p:cNvPr>
          <p:cNvSpPr/>
          <p:nvPr/>
        </p:nvSpPr>
        <p:spPr>
          <a:xfrm>
            <a:off x="5334120" y="358128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358128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>
            <a:hlinkClick r:id="rId15" action="ppaction://hlinksldjump"/>
          </p:cNvPr>
          <p:cNvSpPr/>
          <p:nvPr/>
        </p:nvSpPr>
        <p:spPr>
          <a:xfrm>
            <a:off x="2286000" y="457200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>
            <a:hlinkClick r:id="rId16" action="ppaction://hlinksldjump"/>
          </p:cNvPr>
          <p:cNvSpPr/>
          <p:nvPr/>
        </p:nvSpPr>
        <p:spPr>
          <a:xfrm>
            <a:off x="3809880" y="4572000"/>
            <a:ext cx="1524240" cy="990720"/>
          </a:xfrm>
          <a:custGeom>
            <a:avLst/>
            <a:gdLst>
              <a:gd name="textAreaLeft" fmla="*/ 64080 w 1524240"/>
              <a:gd name="textAreaRight" fmla="*/ 1460160 w 15242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8" h="21600">
                <a:moveTo>
                  <a:pt x="0" y="0"/>
                </a:moveTo>
                <a:lnTo>
                  <a:pt x="33228" y="0"/>
                </a:lnTo>
                <a:lnTo>
                  <a:pt x="33228" y="21600"/>
                </a:lnTo>
                <a:lnTo>
                  <a:pt x="0" y="21600"/>
                </a:lnTo>
                <a:close/>
              </a:path>
              <a:path fill="lightenLess" w="33228" h="21600">
                <a:moveTo>
                  <a:pt x="0" y="0"/>
                </a:moveTo>
                <a:lnTo>
                  <a:pt x="33228" y="0"/>
                </a:lnTo>
                <a:lnTo>
                  <a:pt x="31828" y="1400"/>
                </a:lnTo>
                <a:lnTo>
                  <a:pt x="1400" y="1400"/>
                </a:lnTo>
                <a:close/>
              </a:path>
              <a:path fill="darken" w="33228" h="21600">
                <a:moveTo>
                  <a:pt x="33228" y="0"/>
                </a:moveTo>
                <a:lnTo>
                  <a:pt x="33228" y="21600"/>
                </a:lnTo>
                <a:lnTo>
                  <a:pt x="31828" y="20200"/>
                </a:lnTo>
                <a:lnTo>
                  <a:pt x="31828" y="1400"/>
                </a:lnTo>
                <a:close/>
              </a:path>
              <a:path fill="darkenLess" w="33228" h="21600">
                <a:moveTo>
                  <a:pt x="33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8" y="20200"/>
                </a:lnTo>
                <a:close/>
              </a:path>
              <a:path fill="lighten" w="33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>
            <a:hlinkClick r:id="rId17" action="ppaction://hlinksldjump"/>
          </p:cNvPr>
          <p:cNvSpPr/>
          <p:nvPr/>
        </p:nvSpPr>
        <p:spPr>
          <a:xfrm>
            <a:off x="5334120" y="457200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58000" y="457200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>
            <a:hlinkClick r:id="rId18" action="ppaction://hlinksldjump"/>
          </p:cNvPr>
          <p:cNvSpPr/>
          <p:nvPr/>
        </p:nvSpPr>
        <p:spPr>
          <a:xfrm>
            <a:off x="2286000" y="55627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5562720"/>
            <a:ext cx="1524240" cy="990360"/>
          </a:xfrm>
          <a:custGeom>
            <a:avLst/>
            <a:gdLst>
              <a:gd name="textAreaLeft" fmla="*/ 64080 w 1524240"/>
              <a:gd name="textAreaRight" fmla="*/ 1460160 w 15242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40" h="21600">
                <a:moveTo>
                  <a:pt x="0" y="0"/>
                </a:moveTo>
                <a:lnTo>
                  <a:pt x="33240" y="0"/>
                </a:lnTo>
                <a:lnTo>
                  <a:pt x="33240" y="21600"/>
                </a:lnTo>
                <a:lnTo>
                  <a:pt x="0" y="21600"/>
                </a:lnTo>
                <a:close/>
              </a:path>
              <a:path fill="lightenLess" w="33240" h="21600">
                <a:moveTo>
                  <a:pt x="0" y="0"/>
                </a:moveTo>
                <a:lnTo>
                  <a:pt x="33240" y="0"/>
                </a:lnTo>
                <a:lnTo>
                  <a:pt x="31840" y="1400"/>
                </a:lnTo>
                <a:lnTo>
                  <a:pt x="1400" y="1400"/>
                </a:lnTo>
                <a:close/>
              </a:path>
              <a:path fill="darken" w="33240" h="21600">
                <a:moveTo>
                  <a:pt x="33240" y="0"/>
                </a:moveTo>
                <a:lnTo>
                  <a:pt x="33240" y="21600"/>
                </a:lnTo>
                <a:lnTo>
                  <a:pt x="31840" y="20200"/>
                </a:lnTo>
                <a:lnTo>
                  <a:pt x="31840" y="1400"/>
                </a:lnTo>
                <a:close/>
              </a:path>
              <a:path fill="darkenLess" w="33240" h="21600">
                <a:moveTo>
                  <a:pt x="33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40" y="20200"/>
                </a:lnTo>
                <a:close/>
              </a:path>
              <a:path fill="lighten" w="33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>
            <a:hlinkClick r:id="rId19" action="ppaction://hlinksldjump"/>
          </p:cNvPr>
          <p:cNvSpPr/>
          <p:nvPr/>
        </p:nvSpPr>
        <p:spPr>
          <a:xfrm>
            <a:off x="5334120" y="55627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55627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0"/>
          <a:stretch/>
        </p:blipFill>
        <p:spPr>
          <a:xfrm>
            <a:off x="533520" y="0"/>
            <a:ext cx="8153280" cy="1143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rot="20112000">
            <a:off x="5029560" y="22824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e701"/>
                </a:solidFill>
                <a:latin typeface="Comic Sans MS"/>
              </a:rPr>
              <a:t>MAP QUIZ REVIEW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1295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nou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1295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erb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1295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jug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129528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1295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scellaneo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School Supplies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3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93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43200" y="380988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882720"/>
            <a:ext cx="7010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 these word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ble, computer, pencil sharpen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0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768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4" dur="768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6" dur="768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8" dur="768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998"/>
                            </p:stCondLst>
                            <p:childTnLst>
                              <p:par>
                                <p:cTn id="1011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03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2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School Supplies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4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01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43200" y="380988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90720" y="1217880"/>
            <a:ext cx="7010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 this sentenc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he needs a teach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0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768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0" dur="768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2" dur="768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4" dur="768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998"/>
                            </p:stCondLst>
                            <p:childTnLst>
                              <p:par>
                                <p:cTn id="1077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10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2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2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School Supplies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5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09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3809880"/>
            <a:ext cx="5334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90720" y="882720"/>
            <a:ext cx="7010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 this sentenc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y calculator is in my backpack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0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768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6" dur="768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8" dur="768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0" dur="768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998"/>
                            </p:stCondLst>
                            <p:childTnLst>
                              <p:par>
                                <p:cTn id="1143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17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More Conjugatio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1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17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43200" y="380988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1217880"/>
            <a:ext cx="7010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jugat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     -       cant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0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768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2" dur="768" fill="hold"/>
                                        <p:tgtEl>
                                          <p:spTgt spid="2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4" dur="768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6" dur="768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1998"/>
                            </p:stCondLst>
                            <p:childTnLst>
                              <p:par>
                                <p:cTn id="1209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23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2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2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More Conjugatio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2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25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43200" y="380988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1217880"/>
            <a:ext cx="8229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jugat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o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é     -      montar en biciclet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0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768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8" dur="768" fill="hold"/>
                                        <p:tgtEl>
                                          <p:spTgt spid="2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0" dur="768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2" dur="768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1998"/>
                            </p:stCondLst>
                            <p:childTnLst>
                              <p:par>
                                <p:cTn id="1275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0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2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2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More Conjugatio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3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1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33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362320" y="304812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553040"/>
            <a:ext cx="701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conjugation anywa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fill="hold">
                      <p:stCondLst>
                        <p:cond delay="0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768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4" dur="768" fill="hold"/>
                                        <p:tgtEl>
                                          <p:spTgt spid="2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6" dur="768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8" dur="768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1998"/>
                            </p:stCondLst>
                            <p:childTnLst>
                              <p:par>
                                <p:cTn id="1341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6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2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2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More Conjugatio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4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9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41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43200" y="380988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882720"/>
            <a:ext cx="7010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 this sentence by conjugating the verb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sana and Carlota swim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0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9" dur="768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0" dur="768" fill="hold"/>
                                        <p:tgtEl>
                                          <p:spTgt spid="2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2" dur="768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4" dur="768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1998"/>
                            </p:stCondLst>
                            <p:childTnLst>
                              <p:par>
                                <p:cTn id="1407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3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2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2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More Conjugatio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5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7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49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43200" y="380988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90720" y="547560"/>
            <a:ext cx="7010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 by conjugating the verb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tudent practices socc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59" dur="indefinite" restart="never" nodeType="tmRoot">
          <p:childTnLst>
            <p:seq>
              <p:cTn id="1460" dur="indefinite" nodeType="mainSeq">
                <p:childTnLst>
                  <p:par>
                    <p:cTn id="1461" fill="hold">
                      <p:stCondLst>
                        <p:cond delay="0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5" dur="768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6" dur="768" fill="hold"/>
                                        <p:tgtEl>
                                          <p:spTgt spid="2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8" dur="768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0" dur="768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1998"/>
                            </p:stCondLst>
                            <p:childTnLst>
                              <p:par>
                                <p:cTn id="1473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4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50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2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2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Pronouns $1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2743200"/>
            <a:ext cx="541044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u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(to a friend or other familiar person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1676520"/>
            <a:ext cx="525780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72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ú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701"/>
                </a:solidFill>
                <a:latin typeface="Arial"/>
              </a:rPr>
              <a:t>Pronouns-$2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2057400"/>
            <a:ext cx="6096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129528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difference between Él and Ello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68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68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68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68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998"/>
                            </p:stCondLst>
                            <p:childTnLst>
                              <p:par>
                                <p:cTn id="64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Pronouns - $3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6934320" y="6248520"/>
            <a:ext cx="1981080" cy="457200"/>
          </a:xfrm>
          <a:custGeom>
            <a:avLst/>
            <a:gdLst>
              <a:gd name="textAreaLeft" fmla="*/ 29520 w 1981080"/>
              <a:gd name="textAreaRight" fmla="*/ 1951560 w 1981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38" h="21600">
                <a:moveTo>
                  <a:pt x="0" y="0"/>
                </a:moveTo>
                <a:lnTo>
                  <a:pt x="93538" y="0"/>
                </a:lnTo>
                <a:lnTo>
                  <a:pt x="93538" y="21600"/>
                </a:lnTo>
                <a:lnTo>
                  <a:pt x="0" y="21600"/>
                </a:lnTo>
                <a:close/>
              </a:path>
              <a:path fill="lightenLess" w="93538" h="21600">
                <a:moveTo>
                  <a:pt x="0" y="0"/>
                </a:moveTo>
                <a:lnTo>
                  <a:pt x="93538" y="0"/>
                </a:lnTo>
                <a:lnTo>
                  <a:pt x="92138" y="1400"/>
                </a:lnTo>
                <a:lnTo>
                  <a:pt x="1400" y="1400"/>
                </a:lnTo>
                <a:close/>
              </a:path>
              <a:path fill="darken" w="93538" h="21600">
                <a:moveTo>
                  <a:pt x="93538" y="0"/>
                </a:moveTo>
                <a:lnTo>
                  <a:pt x="93538" y="21600"/>
                </a:lnTo>
                <a:lnTo>
                  <a:pt x="92138" y="20200"/>
                </a:lnTo>
                <a:lnTo>
                  <a:pt x="92138" y="1400"/>
                </a:lnTo>
                <a:close/>
              </a:path>
              <a:path fill="darkenLess" w="93538" h="21600">
                <a:moveTo>
                  <a:pt x="93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38" y="20200"/>
                </a:lnTo>
                <a:close/>
              </a:path>
              <a:path fill="lighten" w="93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13716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144792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osotr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2627280"/>
            <a:ext cx="677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701"/>
                </a:solidFill>
                <a:latin typeface="Arial"/>
              </a:rPr>
              <a:t>Pronouns - $4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2286000"/>
            <a:ext cx="693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Usted is used with someone older than you or to show respect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1371600"/>
            <a:ext cx="5715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you know when to use </a:t>
            </a: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t</a:t>
            </a: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ú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and when to use </a:t>
            </a: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uste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68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68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998"/>
                            </p:stCondLst>
                            <p:childTnLst>
                              <p:par>
                                <p:cTn id="1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Pronouns - $5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057400"/>
            <a:ext cx="640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To take the place of a noun, or to show who is doing the action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1219320"/>
            <a:ext cx="502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do we use pronou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68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68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bs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1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3124080"/>
            <a:ext cx="55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1066680"/>
            <a:ext cx="533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990720"/>
            <a:ext cx="56386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anslat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d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tudi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i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9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1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Verbs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2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13" name=""/>
          <p:cNvSpPr/>
          <p:nvPr/>
        </p:nvSpPr>
        <p:spPr>
          <a:xfrm>
            <a:off x="106668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3048120"/>
            <a:ext cx="4876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o work, to draw, to listen to music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0" y="914400"/>
            <a:ext cx="4876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baj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buj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scuchar m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ús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3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5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7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23:40:10Z</dcterms:created>
  <dc:creator>Infotech</dc:creator>
  <dc:description/>
  <dc:language>en-US</dc:language>
  <cp:lastModifiedBy>Catherine  Savage</cp:lastModifiedBy>
  <dcterms:modified xsi:type="dcterms:W3CDTF">2009-05-19T14:19:14Z</dcterms:modified>
  <cp:revision>18</cp:revision>
  <dc:subject/>
  <dc:title>JEOPARDY</dc:title>
</cp:coreProperties>
</file>