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1539-827F-4288-A564-60465E80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425D-3944-411F-8C96-B038D9C4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E8C7-697A-4C2F-A102-DCB45609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7E34-2713-410C-88CB-7F3BE8DF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FFC5-603F-4869-93FC-ACD1E29B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323D-B6C7-4986-93A8-008EF5C4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920B-F914-481A-99DC-32CA54E4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B2F6-D140-42A7-883C-E9863510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554-4CF9-4B5E-84CB-E27FE42F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31C8-DC03-41D9-ACE2-5FCA4B63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91C9-7EF6-4B37-86F2-EF672866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D602-F9D4-4942-8986-4B968C90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0052-80C5-423F-8C28-E000130D1E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13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11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12.xml"/><Relationship Id="rId19" Type="http://schemas.openxmlformats.org/officeDocument/2006/relationships/slide" Target="slide22.xml"/><Relationship Id="rId20" Type="http://schemas.openxmlformats.org/officeDocument/2006/relationships/image" Target="../media/image1.jpeg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 Quiz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3657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4495680"/>
            <a:ext cx="7924680" cy="1008360"/>
          </a:xfrm>
          <a:prstGeom prst="rect">
            <a:avLst/>
          </a:prstGeom>
          <a:noFill/>
          <a:ln cap="rnd" w="7632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Final Review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609480"/>
            <a:ext cx="3886200" cy="459720"/>
          </a:xfrm>
          <a:prstGeom prst="rect">
            <a:avLst/>
          </a:prstGeom>
          <a:noFill/>
          <a:ln cap="rnd" w="57240">
            <a:solidFill>
              <a:srgbClr val="ffe70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Espa</a:t>
            </a:r>
            <a:r>
              <a:rPr b="1" lang="en-US" sz="2400" spc="-1" strike="noStrike">
                <a:solidFill>
                  <a:srgbClr val="ffe701"/>
                </a:solidFill>
                <a:latin typeface="Arial"/>
                <a:ea typeface="ＭＳ Ｐゴシック"/>
              </a:rPr>
              <a:t>ñ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371600"/>
            <a:ext cx="36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e701"/>
                </a:solidFill>
                <a:latin typeface="Comic Sans MS"/>
              </a:rPr>
              <a:t>FINAL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2133720" y="5867280"/>
            <a:ext cx="4952880" cy="457200"/>
          </a:xfrm>
          <a:custGeom>
            <a:avLst/>
            <a:gdLst>
              <a:gd name="textAreaLeft" fmla="*/ 29520 w 4952880"/>
              <a:gd name="textAreaRight" fmla="*/ 4923360 w 4952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33827" h="21600">
                <a:moveTo>
                  <a:pt x="0" y="0"/>
                </a:moveTo>
                <a:lnTo>
                  <a:pt x="233827" y="0"/>
                </a:lnTo>
                <a:lnTo>
                  <a:pt x="233827" y="21600"/>
                </a:lnTo>
                <a:lnTo>
                  <a:pt x="0" y="21600"/>
                </a:lnTo>
                <a:close/>
              </a:path>
              <a:path fill="lightenLess" w="233827" h="21600">
                <a:moveTo>
                  <a:pt x="0" y="0"/>
                </a:moveTo>
                <a:lnTo>
                  <a:pt x="233827" y="0"/>
                </a:lnTo>
                <a:lnTo>
                  <a:pt x="232427" y="1400"/>
                </a:lnTo>
                <a:lnTo>
                  <a:pt x="1400" y="1400"/>
                </a:lnTo>
                <a:close/>
              </a:path>
              <a:path fill="darken" w="233827" h="21600">
                <a:moveTo>
                  <a:pt x="233827" y="0"/>
                </a:moveTo>
                <a:lnTo>
                  <a:pt x="233827" y="21600"/>
                </a:lnTo>
                <a:lnTo>
                  <a:pt x="232427" y="20200"/>
                </a:lnTo>
                <a:lnTo>
                  <a:pt x="232427" y="1400"/>
                </a:lnTo>
                <a:close/>
              </a:path>
              <a:path fill="darkenLess" w="233827" h="21600">
                <a:moveTo>
                  <a:pt x="2338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27" y="20200"/>
                </a:lnTo>
                <a:close/>
              </a:path>
              <a:path fill="lighten" w="2338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Comic Sans MS"/>
              </a:rPr>
              <a:t>Let’s play JEOPARD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Verbs- $3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220968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0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1219320"/>
            <a:ext cx="5943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nslate to Spanish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ride a bi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 play s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Verbs - $4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6934320" y="594360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5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20574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n infinitive and what are the three types of infinitives in Spanis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768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768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5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7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Verb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5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30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2514600"/>
            <a:ext cx="2362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743200"/>
            <a:ext cx="403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verb is an action or be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129528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ver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6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8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998"/>
                            </p:stCondLst>
                            <p:childTnLst>
                              <p:par>
                                <p:cTn id="501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1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38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352680"/>
            <a:ext cx="3276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217880"/>
            <a:ext cx="701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the 5 different verb endings that you use to conjugate a verb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768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0" dur="768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2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4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998"/>
                            </p:stCondLst>
                            <p:childTnLst>
                              <p:par>
                                <p:cTn id="567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9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2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46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581280"/>
            <a:ext cx="5943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547560"/>
            <a:ext cx="7010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e following sentenc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cuchamos 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úsic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llos tocan la guitarr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 uso la computador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768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6" dur="768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8" dur="76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0" dur="76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998"/>
                            </p:stCondLst>
                            <p:childTnLst>
                              <p:par>
                                <p:cTn id="633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3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54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is sentence into Englis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bl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768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2" dur="768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4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6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998"/>
                            </p:stCondLst>
                            <p:childTnLst>
                              <p:par>
                                <p:cTn id="699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7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4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61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3809880"/>
            <a:ext cx="3276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is sentence by conjugating the verb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danc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768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0" dur="768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2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4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998"/>
                            </p:stCondLst>
                            <p:childTnLst>
                              <p:par>
                                <p:cTn id="747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7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5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69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is sentence by conjugating the verb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sana and Carlota swi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768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6" dur="768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8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0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998"/>
                            </p:stCondLst>
                            <p:childTnLst>
                              <p:par>
                                <p:cTn id="813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chool Supplie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1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77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155304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cesito un l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ápiz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768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2" dur="768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4" dur="768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6" dur="768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998"/>
                            </p:stCondLst>
                            <p:childTnLst>
                              <p:par>
                                <p:cTn id="879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0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chool Supplie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2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85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cesitas una carpeta de argolla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768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8" dur="768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0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2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998"/>
                            </p:stCondLst>
                            <p:childTnLst>
                              <p:par>
                                <p:cTn id="945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2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762120" y="16002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2" action="ppaction://hlinksldjump"/>
              </a:rPr>
              <a:t>$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762120" y="25909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4" action="ppaction://hlinksldjump"/>
              </a:rPr>
              <a:t>$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762120" y="358128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>
            <a:hlinkClick r:id="rId6" action="ppaction://hlinksldjump"/>
          </p:cNvPr>
          <p:cNvSpPr/>
          <p:nvPr/>
        </p:nvSpPr>
        <p:spPr>
          <a:xfrm>
            <a:off x="762120" y="45720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>
            <a:hlinkClick r:id="rId7" action="ppaction://hlinksldjump"/>
          </p:cNvPr>
          <p:cNvSpPr/>
          <p:nvPr/>
        </p:nvSpPr>
        <p:spPr>
          <a:xfrm>
            <a:off x="762120" y="55627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8" action="ppaction://hlinksldjump"/>
              </a:rPr>
              <a:t>$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16002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>
            <a:hlinkClick r:id="rId9" action="ppaction://hlinksldjump"/>
          </p:cNvPr>
          <p:cNvSpPr/>
          <p:nvPr/>
        </p:nvSpPr>
        <p:spPr>
          <a:xfrm>
            <a:off x="3809880" y="1600200"/>
            <a:ext cx="1524240" cy="99072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8" h="21600">
                <a:moveTo>
                  <a:pt x="0" y="0"/>
                </a:moveTo>
                <a:lnTo>
                  <a:pt x="33228" y="0"/>
                </a:lnTo>
                <a:lnTo>
                  <a:pt x="33228" y="21600"/>
                </a:lnTo>
                <a:lnTo>
                  <a:pt x="0" y="21600"/>
                </a:lnTo>
                <a:close/>
              </a:path>
              <a:path fill="lightenLess" w="33228" h="21600">
                <a:moveTo>
                  <a:pt x="0" y="0"/>
                </a:moveTo>
                <a:lnTo>
                  <a:pt x="33228" y="0"/>
                </a:lnTo>
                <a:lnTo>
                  <a:pt x="31828" y="1400"/>
                </a:lnTo>
                <a:lnTo>
                  <a:pt x="1400" y="1400"/>
                </a:lnTo>
                <a:close/>
              </a:path>
              <a:path fill="darken" w="33228" h="21600">
                <a:moveTo>
                  <a:pt x="33228" y="0"/>
                </a:moveTo>
                <a:lnTo>
                  <a:pt x="33228" y="21600"/>
                </a:lnTo>
                <a:lnTo>
                  <a:pt x="31828" y="20200"/>
                </a:lnTo>
                <a:lnTo>
                  <a:pt x="31828" y="1400"/>
                </a:lnTo>
                <a:close/>
              </a:path>
              <a:path fill="darkenLess" w="33228" h="21600">
                <a:moveTo>
                  <a:pt x="33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8" y="20200"/>
                </a:lnTo>
                <a:close/>
              </a:path>
              <a:path fill="lighten" w="33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16002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16002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>
            <a:hlinkClick r:id="rId10" action="ppaction://hlinksldjump"/>
          </p:cNvPr>
          <p:cNvSpPr/>
          <p:nvPr/>
        </p:nvSpPr>
        <p:spPr>
          <a:xfrm>
            <a:off x="2286000" y="25909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>
            <a:hlinkClick r:id="rId11" action="ppaction://hlinksldjump"/>
          </p:cNvPr>
          <p:cNvSpPr/>
          <p:nvPr/>
        </p:nvSpPr>
        <p:spPr>
          <a:xfrm>
            <a:off x="3809880" y="25909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25909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25909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>
            <a:hlinkClick r:id="rId12" action="ppaction://hlinksldjump"/>
          </p:cNvPr>
          <p:cNvSpPr/>
          <p:nvPr/>
        </p:nvSpPr>
        <p:spPr>
          <a:xfrm>
            <a:off x="2286000" y="358128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>
            <a:hlinkClick r:id="rId13" action="ppaction://hlinksldjump"/>
          </p:cNvPr>
          <p:cNvSpPr/>
          <p:nvPr/>
        </p:nvSpPr>
        <p:spPr>
          <a:xfrm>
            <a:off x="3809880" y="3581280"/>
            <a:ext cx="1524240" cy="99072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8" h="21600">
                <a:moveTo>
                  <a:pt x="0" y="0"/>
                </a:moveTo>
                <a:lnTo>
                  <a:pt x="33228" y="0"/>
                </a:lnTo>
                <a:lnTo>
                  <a:pt x="33228" y="21600"/>
                </a:lnTo>
                <a:lnTo>
                  <a:pt x="0" y="21600"/>
                </a:lnTo>
                <a:close/>
              </a:path>
              <a:path fill="lightenLess" w="33228" h="21600">
                <a:moveTo>
                  <a:pt x="0" y="0"/>
                </a:moveTo>
                <a:lnTo>
                  <a:pt x="33228" y="0"/>
                </a:lnTo>
                <a:lnTo>
                  <a:pt x="31828" y="1400"/>
                </a:lnTo>
                <a:lnTo>
                  <a:pt x="1400" y="1400"/>
                </a:lnTo>
                <a:close/>
              </a:path>
              <a:path fill="darken" w="33228" h="21600">
                <a:moveTo>
                  <a:pt x="33228" y="0"/>
                </a:moveTo>
                <a:lnTo>
                  <a:pt x="33228" y="21600"/>
                </a:lnTo>
                <a:lnTo>
                  <a:pt x="31828" y="20200"/>
                </a:lnTo>
                <a:lnTo>
                  <a:pt x="31828" y="1400"/>
                </a:lnTo>
                <a:close/>
              </a:path>
              <a:path fill="darkenLess" w="33228" h="21600">
                <a:moveTo>
                  <a:pt x="33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8" y="20200"/>
                </a:lnTo>
                <a:close/>
              </a:path>
              <a:path fill="lighten" w="33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>
            <a:hlinkClick r:id="rId14" action="ppaction://hlinksldjump"/>
          </p:cNvPr>
          <p:cNvSpPr/>
          <p:nvPr/>
        </p:nvSpPr>
        <p:spPr>
          <a:xfrm>
            <a:off x="5334120" y="358128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358128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>
            <a:hlinkClick r:id="rId15" action="ppaction://hlinksldjump"/>
          </p:cNvPr>
          <p:cNvSpPr/>
          <p:nvPr/>
        </p:nvSpPr>
        <p:spPr>
          <a:xfrm>
            <a:off x="2286000" y="45720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>
            <a:hlinkClick r:id="rId16" action="ppaction://hlinksldjump"/>
          </p:cNvPr>
          <p:cNvSpPr/>
          <p:nvPr/>
        </p:nvSpPr>
        <p:spPr>
          <a:xfrm>
            <a:off x="3809880" y="4572000"/>
            <a:ext cx="1524240" cy="99072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8" h="21600">
                <a:moveTo>
                  <a:pt x="0" y="0"/>
                </a:moveTo>
                <a:lnTo>
                  <a:pt x="33228" y="0"/>
                </a:lnTo>
                <a:lnTo>
                  <a:pt x="33228" y="21600"/>
                </a:lnTo>
                <a:lnTo>
                  <a:pt x="0" y="21600"/>
                </a:lnTo>
                <a:close/>
              </a:path>
              <a:path fill="lightenLess" w="33228" h="21600">
                <a:moveTo>
                  <a:pt x="0" y="0"/>
                </a:moveTo>
                <a:lnTo>
                  <a:pt x="33228" y="0"/>
                </a:lnTo>
                <a:lnTo>
                  <a:pt x="31828" y="1400"/>
                </a:lnTo>
                <a:lnTo>
                  <a:pt x="1400" y="1400"/>
                </a:lnTo>
                <a:close/>
              </a:path>
              <a:path fill="darken" w="33228" h="21600">
                <a:moveTo>
                  <a:pt x="33228" y="0"/>
                </a:moveTo>
                <a:lnTo>
                  <a:pt x="33228" y="21600"/>
                </a:lnTo>
                <a:lnTo>
                  <a:pt x="31828" y="20200"/>
                </a:lnTo>
                <a:lnTo>
                  <a:pt x="31828" y="1400"/>
                </a:lnTo>
                <a:close/>
              </a:path>
              <a:path fill="darkenLess" w="33228" h="21600">
                <a:moveTo>
                  <a:pt x="33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8" y="20200"/>
                </a:lnTo>
                <a:close/>
              </a:path>
              <a:path fill="lighten" w="33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>
            <a:hlinkClick r:id="rId17" action="ppaction://hlinksldjump"/>
          </p:cNvPr>
          <p:cNvSpPr/>
          <p:nvPr/>
        </p:nvSpPr>
        <p:spPr>
          <a:xfrm>
            <a:off x="5334120" y="45720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45720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>
            <a:hlinkClick r:id="rId18" action="ppaction://hlinksldjump"/>
          </p:cNvPr>
          <p:cNvSpPr/>
          <p:nvPr/>
        </p:nvSpPr>
        <p:spPr>
          <a:xfrm>
            <a:off x="2286000" y="55627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55627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>
            <a:hlinkClick r:id="rId19" action="ppaction://hlinksldjump"/>
          </p:cNvPr>
          <p:cNvSpPr/>
          <p:nvPr/>
        </p:nvSpPr>
        <p:spPr>
          <a:xfrm>
            <a:off x="5334120" y="55627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55627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533520" y="0"/>
            <a:ext cx="8153280" cy="1143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rot="20112000">
            <a:off x="5029560" y="22824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e701"/>
                </a:solidFill>
                <a:latin typeface="Comic Sans MS"/>
              </a:rPr>
              <a:t>MAP QUIZ REVIEW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295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nou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1295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erb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1295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jug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12952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129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scellaneo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chool Supplie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3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93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ese word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le, computer, pencil sharpen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768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4" dur="768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6" dur="76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8" dur="76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998"/>
                            </p:stCondLst>
                            <p:childTnLst>
                              <p:par>
                                <p:cTn id="1011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0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chool Supplie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4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01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1217880"/>
            <a:ext cx="701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is sentenc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he needs a teach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0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768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0" dur="768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2" dur="768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4" dur="768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998"/>
                            </p:stCondLst>
                            <p:childTnLst>
                              <p:par>
                                <p:cTn id="1077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chool Supplie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5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09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3809880"/>
            <a:ext cx="5334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is sentenc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y calculator is in my backpack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768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6" dur="768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8" dur="76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0" dur="76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998"/>
                            </p:stCondLst>
                            <p:childTnLst>
                              <p:par>
                                <p:cTn id="1143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More 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1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17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1217880"/>
            <a:ext cx="701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juga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     -       can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0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768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2" dur="768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4" dur="76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6" dur="76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998"/>
                            </p:stCondLst>
                            <p:childTnLst>
                              <p:par>
                                <p:cTn id="1209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2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2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More 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2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25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21788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juga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é     -      montar en biciclet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768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8" dur="768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0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2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998"/>
                            </p:stCondLst>
                            <p:childTnLst>
                              <p:par>
                                <p:cTn id="1275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2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More 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3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33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62320" y="304812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55304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conjugation anywa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0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768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4" dur="768" fill="hold"/>
                                        <p:tgtEl>
                                          <p:spTgt spid="2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6" dur="768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8" dur="768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1998"/>
                            </p:stCondLst>
                            <p:childTnLst>
                              <p:par>
                                <p:cTn id="1341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2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2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More 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4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41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is sentence by conjugating the verb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sana and Carlota swi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768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0" dur="768" fill="hold"/>
                                        <p:tgtEl>
                                          <p:spTgt spid="2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2" dur="768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4" dur="768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998"/>
                            </p:stCondLst>
                            <p:childTnLst>
                              <p:par>
                                <p:cTn id="1407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2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2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More 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5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7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49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547560"/>
            <a:ext cx="7010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by conjugating the verb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tudent practices socc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fill="hold">
                      <p:stCondLst>
                        <p:cond delay="0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768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6" dur="768" fill="hold"/>
                                        <p:tgtEl>
                                          <p:spTgt spid="2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8" dur="768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0" dur="768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1998"/>
                            </p:stCondLst>
                            <p:childTnLst>
                              <p:par>
                                <p:cTn id="1473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5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2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2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Pronouns $1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2743200"/>
            <a:ext cx="54104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to a friend or other familiar person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1676520"/>
            <a:ext cx="52578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72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ú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Pronouns-$2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2057400"/>
            <a:ext cx="6096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129528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difference between Él and Ell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68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68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998"/>
                            </p:stCondLst>
                            <p:childTnLst>
                              <p:par>
                                <p:cTn id="64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Pronouns - $3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6934320" y="624852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13716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44792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sotr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2627280"/>
            <a:ext cx="67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Pronouns - $4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2286000"/>
            <a:ext cx="693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Usted is used with someone older than you or to show respect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1371600"/>
            <a:ext cx="57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know when to use 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nd when to use 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ust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998"/>
                            </p:stCondLst>
                            <p:childTnLst>
                              <p:par>
                                <p:cTn id="1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Pronouns - $5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To take the place of a noun, or to show who is doing the actio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1219320"/>
            <a:ext cx="50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o we use pronou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bs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1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3124080"/>
            <a:ext cx="55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106668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990720"/>
            <a:ext cx="5638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nslat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d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tudi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i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Verb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2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13" name=""/>
          <p:cNvSpPr/>
          <p:nvPr/>
        </p:nvSpPr>
        <p:spPr>
          <a:xfrm>
            <a:off x="106668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3048120"/>
            <a:ext cx="4876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o work, to draw, to listen to music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914400"/>
            <a:ext cx="4876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baj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buj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scuchar 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ús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23:40:10Z</dcterms:created>
  <dc:creator>Infotech</dc:creator>
  <dc:description/>
  <dc:language>en-US</dc:language>
  <cp:lastModifiedBy>Catherine  Savage</cp:lastModifiedBy>
  <dcterms:modified xsi:type="dcterms:W3CDTF">2009-05-19T14:19:14Z</dcterms:modified>
  <cp:revision>18</cp:revision>
  <dc:subject/>
  <dc:title>JEOPARDY</dc:title>
</cp:coreProperties>
</file>